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C729-8BA6-4F13-9DFF-2CFF279B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AE5B-720A-4F23-9A27-74E54DE2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5A8-88EE-4DE3-9A46-A3553A9F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045-65B3-4E28-A94C-B888038E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51F-32E4-4484-8DDE-278B3C27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6FE-C677-4A92-B87E-02C096DC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3080-9B57-4E12-802F-66B575F6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2D5-34FE-48F2-BB44-E50B47F3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8290-3DA0-441C-B5CF-7B2256F8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F1D-2FA5-4FB6-921F-DA1C7BCE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D2C-4F3B-49F5-A5D9-0E553A1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B952-261F-4DE6-BCF6-935B9CC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8991-C078-443A-A049-3F49700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0C6-CDB7-4509-BEDA-1E87499A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5BF-3B5C-488A-9308-467146A2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750-1D17-44A9-898A-4459676B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2FAD-D62A-4599-8429-7C898F4B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2D65-AA5E-4609-8C74-576EC3F2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5DBB-469A-4F57-B0EA-36916D70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E69-8321-478F-9E2C-A4740A0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67F-FA0C-4760-AD81-3F505E58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77E-8591-4443-A323-52E9D52E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63D-E13C-4BCF-97D7-48561D5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2AF-4A0E-4BBE-A694-2EC55E4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BB2-4446-4A3E-8BDA-A171B80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F9A-2728-4922-ABEF-D65C7896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2A1-0E0D-4B21-8110-2A058B7E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3F9-4686-4FD2-8EB9-3B8B2BB4C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hyperlink" Target="http://www.tcu.gov.on.ca/eng/eopg/publications/87-1734E-es_participant_registration.doc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2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3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4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5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cu.gov.on.ca/eng/search.html" TargetMode="External"/><Relationship Id="rId2" Type="http://schemas.openxmlformats.org/officeDocument/2006/relationships/hyperlink" Target="http://www.ontario.ca/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18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he Career Foundation</a:t>
            </a:r>
            <a:br>
              <a:rPr sz="4800"/>
            </a:b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3427200"/>
            <a:ext cx="738684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Employment Ontar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rientation S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3" descr="general"/>
          <p:cNvPicPr/>
          <p:nvPr/>
        </p:nvPicPr>
        <p:blipFill>
          <a:blip r:embed="rId1"/>
          <a:stretch/>
        </p:blipFill>
        <p:spPr>
          <a:xfrm>
            <a:off x="4572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careerfoundation.cxwa-dev.cyberplex.com/uploaded/tiny_mce/File/Marketing/tabs.jpg?preview=true?preview=true"/>
          <p:cNvPicPr/>
          <p:nvPr/>
        </p:nvPicPr>
        <p:blipFill>
          <a:blip r:embed="rId2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ed Eo.jpg"/>
          <p:cNvPicPr/>
          <p:nvPr/>
        </p:nvPicPr>
        <p:blipFill>
          <a:blip r:embed="rId3"/>
          <a:stretch/>
        </p:blipFill>
        <p:spPr>
          <a:xfrm>
            <a:off x="3200400" y="4800600"/>
            <a:ext cx="2971800" cy="118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How to access Employment Ontario services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9" name="Picture 7" descr="general"/>
          <p:cNvPicPr/>
          <p:nvPr/>
        </p:nvPicPr>
        <p:blipFill>
          <a:blip r:embed="rId1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1295280" y="1523880"/>
            <a:ext cx="7313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SS RESOURCES &amp; INF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wish to use career/computer resources &amp; job search workshops to job search on your 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DIVIDUALIZED EMPLOYMENT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need one-to-one assistance to look for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the following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http://www.tcu.gov.on.ca/eng/eopg/publications/87-1734E-es_participant_registration.do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an appointment with an Employment Counsellor to assess employment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tain a customized Employment Service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job search coaching sessions until you get a j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805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ffices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oronto West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Career Foundation. Ontario Employment Serv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obicoke Employment Centre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5-109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wrence Square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3-006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ston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89-486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YMCA of Greater Toronto. Employment and Community Services. Etobicok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bion Mall, 1530 Albion Rd Unit 83, Toronto, ON M9V 1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1-8714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3"/>
              </a:rPr>
              <a:t>Humber College. Ontario Employment Services. North Etobicoke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20 Albion Rd 2nd Fl, Toronto, ON M9V 4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8-72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5"/>
              </a:rPr>
              <a:t>PTP -- Adult Learning and Employment Programs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415 Dundas St West Ste 106, Toronto, ON M9B 1B5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9-880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JobStart. Ontario Employment Services. Lake Shore Boulevard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930 Lake Shore Blvd West, Toronto, ON M8V 1J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1-2295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unity MicroSkills Development Centr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Vulcan St, Toronto, ON M9W 1L3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7-718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http://careerfoundation.cxwa-dev.cyberplex.com/uploaded/tiny_mce/File/Marketing/tabs.jpg?preview=true?preview=true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Referral Proces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905120"/>
            <a:ext cx="731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ll the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Employment Ontario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fice to set up a screening appoin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EER FOUNDATION REFERRAL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client come into the Employment Ontario office with a completed Referral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eneral"/>
          <p:cNvPicPr/>
          <p:nvPr/>
        </p:nvPicPr>
        <p:blipFill>
          <a:blip r:embed="rId2"/>
          <a:stretch/>
        </p:blipFill>
        <p:spPr>
          <a:xfrm>
            <a:off x="45720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careerfoundation.cxwa-dev.cyberplex.com/uploaded/tiny_mce/File/Marketing/tabs.jpg?preview=true?preview=true"/>
          <p:cNvPicPr/>
          <p:nvPr/>
        </p:nvPicPr>
        <p:blipFill>
          <a:blip r:embed="rId4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Question &amp; Answer Period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3" name="Picture 2" descr="C:\Users\nicole\AppData\Local\Microsoft\Windows\Temporary Internet Files\Content.IE5\YUHZPDZH\MC900389266[1].wmf"/>
          <p:cNvPicPr/>
          <p:nvPr/>
        </p:nvPicPr>
        <p:blipFill>
          <a:blip r:embed="rId1"/>
          <a:stretch/>
        </p:blipFill>
        <p:spPr>
          <a:xfrm>
            <a:off x="358128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he Career Found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Would like to thank-you for your attend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Have a Great Da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3" descr="general"/>
          <p:cNvPicPr/>
          <p:nvPr/>
        </p:nvPicPr>
        <p:blipFill>
          <a:blip r:embed="rId1"/>
          <a:stretch/>
        </p:blipFill>
        <p:spPr>
          <a:xfrm>
            <a:off x="1752480" y="304920"/>
            <a:ext cx="6858000" cy="110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Full Suite Services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 STOP SHO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9b95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loyment services customized to meet job seeker’s individual nee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 Service Planning &amp; Coord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ource &amp; Inform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ncluding referrals &amp; train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Search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Matching, Placements &amp; Incen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Retention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general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ment Ontario Servic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unched in Ontario 2006 with the Apprenticeship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implemented across Ontario as of August 1st, 20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general"/>
          <p:cNvPicPr/>
          <p:nvPr/>
        </p:nvPicPr>
        <p:blipFill>
          <a:blip r:embed="rId1"/>
          <a:stretch/>
        </p:blipFill>
        <p:spPr>
          <a:xfrm>
            <a:off x="838080" y="114480"/>
            <a:ext cx="2057400" cy="79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Purpose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help unemployed Ontar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le employ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http://careerfoundation.cxwa-dev.cyberplex.com/uploaded/tiny_mce/File/Marketing/tabs.jpg?preview=true?preview=true"/>
          <p:cNvPicPr/>
          <p:nvPr/>
        </p:nvPicPr>
        <p:blipFill>
          <a:blip r:embed="rId1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Vision of Employment Ontario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ducated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killed workforce in North America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to build the province’s competi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eneral"/>
          <p:cNvPicPr/>
          <p:nvPr/>
        </p:nvPicPr>
        <p:blipFill>
          <a:blip r:embed="rId2"/>
          <a:stretch/>
        </p:blipFill>
        <p:spPr>
          <a:xfrm>
            <a:off x="6858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mployment Ontario’s Service Promise will: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st quality of service and sup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individuals meet their career or hiring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portunities to make it easier for individual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rove their skil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education and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no matter which Employment Ontario office an individual walks int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will get the help they n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ployers and commun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uild the highly skilled, highly educated workforce Ontario needs to be competit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general"/>
          <p:cNvPicPr/>
          <p:nvPr/>
        </p:nvPicPr>
        <p:blipFill>
          <a:blip r:embed="rId2"/>
          <a:stretch/>
        </p:blipFill>
        <p:spPr>
          <a:xfrm>
            <a:off x="609480" y="152280"/>
            <a:ext cx="2057400" cy="83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Career Foundation offers the following through MTCU’s Employment Ontario model: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Client Service Planning &amp; Coordinat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Service Pla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ferral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Resource &amp; Inform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bour market informatio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/career resour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on education &amp; training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puters/Interne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Searc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vidual assistance i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eer decision mak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oal sett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skills analysis &amp; interview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preparation and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Matching, Placement and Incentiv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tching of skills and interest with employment opportunities and job seeker needs.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epending on training needs, incentives can be provid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5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Training and Reten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itional coaching and mentoring to maintain employment, complete training, or proceed to the next steps of your career path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uide to Services in Ontario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mployment Ontari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out how and where you can access many government servic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http://www.tcu.gov.on.ca/eng/search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www.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211 Ontario and Toront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ers easy access to community, social, health and related government servic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toronto.ca/splash.j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ettlement Servic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s information and answers to settle in Ont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settlement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general"/>
          <p:cNvPicPr/>
          <p:nvPr/>
        </p:nvPicPr>
        <p:blipFill>
          <a:blip r:embed="rId4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careerfoundation.cxwa-dev.cyberplex.com/uploaded/tiny_mce/File/Marketing/tabs.jpg?preview=true?preview=true"/>
          <p:cNvPicPr/>
          <p:nvPr/>
        </p:nvPicPr>
        <p:blipFill>
          <a:blip r:embed="rId5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Eligibility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INDEPENDENT JOB SEARCH -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UN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All Ontari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1-1 ASSISTANCE IN JOB SEARCH -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Unemployed: </a:t>
            </a:r>
            <a:r>
              <a:rPr b="0" i="1" lang="en-CA" sz="2400" spc="-1" strike="noStrike">
                <a:solidFill>
                  <a:srgbClr val="000000"/>
                </a:solidFill>
                <a:latin typeface="Verdana"/>
              </a:rPr>
              <a:t>working less than 20 hours per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Not in Full-time studies/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Legally entitled to work in Cana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Based on individual employment service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5:32:56Z</dcterms:created>
  <dc:creator>zaira</dc:creator>
  <dc:description/>
  <dc:language>en-US</dc:language>
  <cp:lastModifiedBy>aholmes</cp:lastModifiedBy>
  <cp:lastPrinted>2011-05-16T17:59:17Z</cp:lastPrinted>
  <dcterms:modified xsi:type="dcterms:W3CDTF">2011-07-08T18:59:11Z</dcterms:modified>
  <cp:revision>173</cp:revision>
  <dc:subject/>
  <dc:title>You’re Hired! Now what???</dc:title>
</cp:coreProperties>
</file>